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DFF0-22D4-44DE-A6D5-F3950CF2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F5FE-AD75-45CA-81DD-57F00468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A0B5-3BF8-4B37-81FB-05ED2628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2D84-E055-44E3-9AC4-D8041872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00F1-0832-4E33-8D89-80F9A988A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10A3-D8FE-4875-A4FF-19A905E4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5451-D8D3-4E84-A83F-17C2CA1A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36A4-7F25-4BEF-8AA3-AB9FD98A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E77E-8CC3-4E6F-A468-E6701553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7246-663C-4D20-BDA2-68219DF4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D90C-AE4E-4AA8-8A9E-3A797223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2DBE-EAA0-4A28-898B-2E7FBF40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ADDB-58D3-42DC-8413-A6F277E9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2809-5436-4866-80E9-CB595867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B6A7-3C20-40C3-B90A-FF9BF339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3F96-A09C-420F-B93C-8998D700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E4DA-F4DA-4EE1-96D6-798B255EF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1466-3746-492C-99FB-00B28673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94E9-6343-4DF7-9CB1-2387CAC4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CF6E-7977-4A79-8EA1-DE8AF43F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E121-F8AF-4876-9A07-9336995E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466C-0B4C-49E8-BE02-B9E6DCB7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B2D3-697B-4CCF-90E1-6957BCE3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444C-2630-413C-A6AC-3B8B612D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42AB-E83B-4AD4-AE37-7F67393C52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524E-A0A7-48B5-A1A5-D90098E952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pression Co-Process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RA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2K X 8 bit word S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 ns cycle/access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our implementation, we achieved a 140ns cycle time and a 160ns access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HDL code includes a feature to clear the contents of S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RAM Timing Wavefor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4" name="wave3a" descr=""/>
          <p:cNvPicPr/>
          <p:nvPr/>
        </p:nvPicPr>
        <p:blipFill>
          <a:blip r:embed="rId1"/>
          <a:srcRect l="0" t="0" r="54549" b="55561"/>
          <a:stretch/>
        </p:blipFill>
        <p:spPr>
          <a:xfrm>
            <a:off x="1066680" y="2133720"/>
            <a:ext cx="6873840" cy="3784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525840" y="2403360"/>
            <a:ext cx="0" cy="350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68680" y="2419200"/>
            <a:ext cx="0" cy="350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11640" y="2409840"/>
            <a:ext cx="0" cy="350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57680" y="2409840"/>
            <a:ext cx="0" cy="350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85800" y="2438280"/>
          <a:ext cx="7734240" cy="31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38280"/>
                    <a:ext cx="7734240" cy="31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ression Co-process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cates with a PC using the RS-232 Serial Port Interface @ 9600 bau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32 Kbytes of RAM for look up tables (LU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ed Lempel-Ziv algorithm (LZ7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LZ78 Compression Algorith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resses binary data into a stream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de wor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y-based algorithm in that It does not analyze the incoming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s every new string of characters 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ubstring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within a data stream into a Look-Up-Table (LUT)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LZ78 Compression Algorith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asic operation of the algorithm revolves around looking through the Look-Up-Table (LUT) fo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ubstr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ubstr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 unique string of characters (8bits) that is contained within a data str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LZ78 Compression Algorith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pu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de wor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can be of any arbitrary length, but it must be expressed in more than a single by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-bit code word is impleme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256 codes are reserved for the standard ASCII character set with the remaining code words assigned t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ubstring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 the algorithm is execu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Z78 Compression Algorithm Exam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419120" y="1981080"/>
          <a:ext cx="6019920" cy="44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9120" y="1981080"/>
                    <a:ext cx="601992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rial Por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e Idle state logic level ‘1’ is transmit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ransition from high to low indicates the start of a data wo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0" y="1523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205740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666880" y="1523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1523880"/>
            <a:ext cx="381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838080" y="1523880"/>
            <a:ext cx="1447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205740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1523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1523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1523880"/>
            <a:ext cx="1219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205740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2057400"/>
            <a:ext cx="121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1523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5238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1523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205740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205740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205740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38480" y="205740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81480" y="205740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205740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205740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62720" y="205740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43600" y="205740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0880" y="266688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t B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91680" y="259092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op B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680" y="2895480"/>
            <a:ext cx="25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00110001”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440" y="16002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74240" y="195408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creasing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198108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rial Port - Hardware Flow Control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TS/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TS line is asserted to indicate ready to receiv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TS is turned off when output FIFO is full or the ByteEncoder is not rea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TS is turned on any other tim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 always “ready to send” - RTS line not need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71600" y="5257800"/>
            <a:ext cx="1752480" cy="91440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yteEnco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579132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579132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5257800"/>
            <a:ext cx="1752480" cy="91440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 -by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pm_FIF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5257800"/>
            <a:ext cx="1752840" cy="91440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S-23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579132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848720" y="579132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03880" y="5181480"/>
            <a:ext cx="99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mpu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5160" y="4952880"/>
            <a:ext cx="130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rom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mpressi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3200400" y="2514600"/>
          <a:ext cx="27432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51460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2057400" y="762120"/>
          <a:ext cx="5334120" cy="548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762120"/>
                    <a:ext cx="53341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chematic for External Circuit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1T23:07:08Z</dcterms:created>
  <dc:creator>Department of Electrical and Computer Engineering</dc:creator>
  <dc:description/>
  <dc:language>en-US</dc:language>
  <cp:lastModifiedBy>Eric Chan</cp:lastModifiedBy>
  <dcterms:modified xsi:type="dcterms:W3CDTF">1999-04-06T10:31:58Z</dcterms:modified>
  <cp:revision>40</cp:revision>
  <dc:subject/>
  <dc:title>Data Compression Co-Processor</dc:title>
</cp:coreProperties>
</file>